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2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8926-7109-4A89-A2A0-505496D29A6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A394-7AF0-4DDC-862C-EC7813AA082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链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入地大办公网主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务系统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生选课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选课选课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育课选课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几点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课状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黄色推荐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专业课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意课表底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跨专业选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退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毕业审核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毕业审核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9A7-8433-4DE8-81F5-565CCC26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5BA-8538-44FC-A5CC-31B08A76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2C3-E349-431B-9F2A-A45CF8CE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E91-A1D4-451A-9338-46DEAEC5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26C-D577-4A0C-94E2-9E27DC0C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374-17F1-4597-9CDB-B67B0590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7C0-9DFC-414C-A94E-C8FB77F5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2DB-8126-413D-8C86-84040BA1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DBA-BB4F-423F-8E98-3154E4DB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C00-F0E3-465B-82DA-7BCBA53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723-E215-4174-A99A-6EE6A046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767-4363-46C9-957E-D10D884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DE20-F668-4B26-ABE6-750148917C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E0B0-D815-416E-AB98-D1D85D15AD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grpSp>
        <p:nvGrpSpPr>
          <p:cNvPr id="42" name="Group 39"/>
          <p:cNvGrpSpPr/>
          <p:nvPr/>
        </p:nvGrpSpPr>
        <p:grpSpPr>
          <a:xfrm>
            <a:off x="250920" y="6237360"/>
            <a:ext cx="450360" cy="419040"/>
            <a:chOff x="250920" y="6237360"/>
            <a:chExt cx="450360" cy="419040"/>
          </a:xfrm>
        </p:grpSpPr>
        <p:sp>
          <p:nvSpPr>
            <p:cNvPr id="43" name="Freeform 40"/>
            <p:cNvSpPr/>
            <p:nvPr/>
          </p:nvSpPr>
          <p:spPr>
            <a:xfrm>
              <a:off x="250920" y="6308280"/>
              <a:ext cx="391680" cy="28908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61" h="45">
                  <a:moveTo>
                    <a:pt x="57" y="10"/>
                  </a:moveTo>
                  <a:cubicBezTo>
                    <a:pt x="57" y="9"/>
                    <a:pt x="56" y="8"/>
                    <a:pt x="53" y="6"/>
                  </a:cubicBezTo>
                  <a:cubicBezTo>
                    <a:pt x="50" y="5"/>
                    <a:pt x="46" y="4"/>
                    <a:pt x="41" y="4"/>
                  </a:cubicBezTo>
                  <a:cubicBezTo>
                    <a:pt x="36" y="3"/>
                    <a:pt x="31" y="5"/>
                    <a:pt x="26" y="8"/>
                  </a:cubicBezTo>
                  <a:cubicBezTo>
                    <a:pt x="18" y="14"/>
                    <a:pt x="10" y="25"/>
                    <a:pt x="4" y="45"/>
                  </a:cubicBezTo>
                  <a:lnTo>
                    <a:pt x="0" y="44"/>
                  </a:lnTo>
                  <a:cubicBezTo>
                    <a:pt x="7" y="23"/>
                    <a:pt x="15" y="11"/>
                    <a:pt x="24" y="5"/>
                  </a:cubicBezTo>
                  <a:cubicBezTo>
                    <a:pt x="30" y="1"/>
                    <a:pt x="36" y="0"/>
                    <a:pt x="41" y="0"/>
                  </a:cubicBezTo>
                  <a:cubicBezTo>
                    <a:pt x="46" y="0"/>
                    <a:pt x="51" y="1"/>
                    <a:pt x="54" y="3"/>
                  </a:cubicBezTo>
                  <a:cubicBezTo>
                    <a:pt x="58" y="5"/>
                    <a:pt x="60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61" y="11"/>
                    <a:pt x="59" y="12"/>
                    <a:pt x="57" y="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1"/>
            <p:cNvSpPr/>
            <p:nvPr/>
          </p:nvSpPr>
          <p:spPr>
            <a:xfrm>
              <a:off x="373320" y="6237360"/>
              <a:ext cx="187920" cy="41904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9" h="65">
                  <a:moveTo>
                    <a:pt x="26" y="4"/>
                  </a:moveTo>
                  <a:cubicBezTo>
                    <a:pt x="26" y="4"/>
                    <a:pt x="24" y="4"/>
                    <a:pt x="21" y="5"/>
                  </a:cubicBezTo>
                  <a:cubicBezTo>
                    <a:pt x="18" y="6"/>
                    <a:pt x="14" y="8"/>
                    <a:pt x="11" y="11"/>
                  </a:cubicBezTo>
                  <a:cubicBezTo>
                    <a:pt x="8" y="14"/>
                    <a:pt x="6" y="18"/>
                    <a:pt x="5" y="24"/>
                  </a:cubicBezTo>
                  <a:cubicBezTo>
                    <a:pt x="4" y="33"/>
                    <a:pt x="6" y="46"/>
                    <a:pt x="15" y="63"/>
                  </a:cubicBezTo>
                  <a:lnTo>
                    <a:pt x="12" y="65"/>
                  </a:lnTo>
                  <a:cubicBezTo>
                    <a:pt x="3" y="47"/>
                    <a:pt x="0" y="33"/>
                    <a:pt x="1" y="24"/>
                  </a:cubicBezTo>
                  <a:cubicBezTo>
                    <a:pt x="2" y="17"/>
                    <a:pt x="5" y="12"/>
                    <a:pt x="9" y="8"/>
                  </a:cubicBezTo>
                  <a:cubicBezTo>
                    <a:pt x="12" y="5"/>
                    <a:pt x="16" y="3"/>
                    <a:pt x="20" y="2"/>
                  </a:cubicBezTo>
                  <a:cubicBezTo>
                    <a:pt x="23" y="0"/>
                    <a:pt x="26" y="0"/>
                    <a:pt x="27" y="0"/>
                  </a:cubicBezTo>
                  <a:cubicBezTo>
                    <a:pt x="28" y="1"/>
                    <a:pt x="29" y="1"/>
                    <a:pt x="29" y="1"/>
                  </a:cubicBezTo>
                  <a:cubicBezTo>
                    <a:pt x="29" y="2"/>
                    <a:pt x="29" y="4"/>
                    <a:pt x="26" y="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2"/>
            <p:cNvSpPr/>
            <p:nvPr/>
          </p:nvSpPr>
          <p:spPr>
            <a:xfrm>
              <a:off x="340920" y="6249960"/>
              <a:ext cx="261720" cy="3686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41" h="57">
                  <a:moveTo>
                    <a:pt x="10" y="3"/>
                  </a:moveTo>
                  <a:cubicBezTo>
                    <a:pt x="9" y="4"/>
                    <a:pt x="8" y="5"/>
                    <a:pt x="6" y="8"/>
                  </a:cubicBezTo>
                  <a:cubicBezTo>
                    <a:pt x="5" y="11"/>
                    <a:pt x="3" y="14"/>
                    <a:pt x="3" y="19"/>
                  </a:cubicBezTo>
                  <a:cubicBezTo>
                    <a:pt x="3" y="23"/>
                    <a:pt x="4" y="28"/>
                    <a:pt x="8" y="33"/>
                  </a:cubicBezTo>
                  <a:cubicBezTo>
                    <a:pt x="13" y="40"/>
                    <a:pt x="23" y="48"/>
                    <a:pt x="41" y="54"/>
                  </a:cubicBezTo>
                  <a:lnTo>
                    <a:pt x="40" y="57"/>
                  </a:lnTo>
                  <a:cubicBezTo>
                    <a:pt x="21" y="51"/>
                    <a:pt x="10" y="43"/>
                    <a:pt x="5" y="35"/>
                  </a:cubicBezTo>
                  <a:cubicBezTo>
                    <a:pt x="1" y="29"/>
                    <a:pt x="0" y="23"/>
                    <a:pt x="0" y="19"/>
                  </a:cubicBezTo>
                  <a:cubicBezTo>
                    <a:pt x="0" y="14"/>
                    <a:pt x="2" y="9"/>
                    <a:pt x="3" y="6"/>
                  </a:cubicBezTo>
                  <a:cubicBezTo>
                    <a:pt x="5" y="3"/>
                    <a:pt x="7" y="1"/>
                    <a:pt x="8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0"/>
                    <a:pt x="12" y="2"/>
                    <a:pt x="10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3"/>
            <p:cNvSpPr/>
            <p:nvPr/>
          </p:nvSpPr>
          <p:spPr>
            <a:xfrm>
              <a:off x="294840" y="6353280"/>
              <a:ext cx="406440" cy="2062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3" h="32">
                  <a:moveTo>
                    <a:pt x="4" y="3"/>
                  </a:moveTo>
                  <a:cubicBezTo>
                    <a:pt x="4" y="3"/>
                    <a:pt x="4" y="5"/>
                    <a:pt x="5" y="8"/>
                  </a:cubicBezTo>
                  <a:cubicBezTo>
                    <a:pt x="5" y="11"/>
                    <a:pt x="7" y="15"/>
                    <a:pt x="10" y="18"/>
                  </a:cubicBezTo>
                  <a:cubicBezTo>
                    <a:pt x="12" y="22"/>
                    <a:pt x="16" y="25"/>
                    <a:pt x="22" y="26"/>
                  </a:cubicBezTo>
                  <a:cubicBezTo>
                    <a:pt x="31" y="28"/>
                    <a:pt x="43" y="27"/>
                    <a:pt x="61" y="20"/>
                  </a:cubicBezTo>
                  <a:lnTo>
                    <a:pt x="63" y="23"/>
                  </a:lnTo>
                  <a:cubicBezTo>
                    <a:pt x="44" y="31"/>
                    <a:pt x="31" y="32"/>
                    <a:pt x="21" y="29"/>
                  </a:cubicBezTo>
                  <a:cubicBezTo>
                    <a:pt x="15" y="28"/>
                    <a:pt x="10" y="24"/>
                    <a:pt x="7" y="21"/>
                  </a:cubicBezTo>
                  <a:cubicBezTo>
                    <a:pt x="4" y="17"/>
                    <a:pt x="2" y="13"/>
                    <a:pt x="1" y="9"/>
                  </a:cubicBezTo>
                  <a:cubicBezTo>
                    <a:pt x="0" y="6"/>
                    <a:pt x="1" y="3"/>
                    <a:pt x="1" y="2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0"/>
                    <a:pt x="4" y="0"/>
                    <a:pt x="4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4"/>
            <p:cNvSpPr/>
            <p:nvPr/>
          </p:nvSpPr>
          <p:spPr>
            <a:xfrm>
              <a:off x="425880" y="6346800"/>
              <a:ext cx="159840" cy="162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62360"/>
                <a:gd name="textAreaBottom" fmla="*/ 162360 h 162360"/>
              </a:gdLst>
              <a:ahLst/>
              <a:rect l="textAreaLeft" t="textAreaTop" r="textAreaRight" b="textAreaBottom"/>
              <a:pathLst>
                <a:path w="25" h="25">
                  <a:moveTo>
                    <a:pt x="13" y="0"/>
                  </a:moveTo>
                  <a:cubicBezTo>
                    <a:pt x="20" y="1"/>
                    <a:pt x="25" y="7"/>
                    <a:pt x="24" y="13"/>
                  </a:cubicBezTo>
                  <a:cubicBezTo>
                    <a:pt x="24" y="20"/>
                    <a:pt x="18" y="25"/>
                    <a:pt x="12" y="25"/>
                  </a:cubicBezTo>
                  <a:cubicBezTo>
                    <a:pt x="5" y="24"/>
                    <a:pt x="0" y="19"/>
                    <a:pt x="0" y="12"/>
                  </a:cubicBezTo>
                  <a:cubicBezTo>
                    <a:pt x="1" y="5"/>
                    <a:pt x="7" y="0"/>
                    <a:pt x="13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41"/>
          <p:cNvSpPr/>
          <p:nvPr/>
        </p:nvSpPr>
        <p:spPr>
          <a:xfrm>
            <a:off x="1440" y="1900080"/>
            <a:ext cx="9149040" cy="166860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4680" y="2052720"/>
            <a:ext cx="9145800" cy="1368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7"/>
          <p:cNvSpPr/>
          <p:nvPr/>
        </p:nvSpPr>
        <p:spPr>
          <a:xfrm>
            <a:off x="-1440" y="6613560"/>
            <a:ext cx="9145440" cy="2509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16"/>
          <p:cNvSpPr/>
          <p:nvPr/>
        </p:nvSpPr>
        <p:spPr>
          <a:xfrm>
            <a:off x="1365120" y="2670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7"/>
          <p:cNvSpPr/>
          <p:nvPr/>
        </p:nvSpPr>
        <p:spPr>
          <a:xfrm>
            <a:off x="754200" y="2058840"/>
            <a:ext cx="76356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选课经验分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1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05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49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1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毕业审核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4360" y="256392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毕业时，只计算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获得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学分，不计算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没有获得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学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特别注意：各类课程不能替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56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8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毕业审核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4360" y="256392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允许多选课程，甚至包括专业计划外的课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注意利用！！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多学点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65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推免文件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/>
          <p:nvPr/>
        </p:nvSpPr>
        <p:spPr>
          <a:xfrm>
            <a:off x="770040" y="3398760"/>
            <a:ext cx="76197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课有风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课须慎重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切忌贪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72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查看选课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/>
          <p:nvPr/>
        </p:nvSpPr>
        <p:spPr>
          <a:xfrm>
            <a:off x="770040" y="3027240"/>
            <a:ext cx="103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人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2627280" y="2347920"/>
            <a:ext cx="651672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357280" y="0"/>
            <a:ext cx="45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80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查看选课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/>
          <p:nvPr/>
        </p:nvSpPr>
        <p:spPr>
          <a:xfrm>
            <a:off x="439560" y="2852640"/>
            <a:ext cx="204336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最真实最实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选课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698920" y="2347920"/>
            <a:ext cx="6445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88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学分计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/>
          <p:nvPr/>
        </p:nvSpPr>
        <p:spPr>
          <a:xfrm>
            <a:off x="770040" y="2708280"/>
            <a:ext cx="76197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各类学分总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通识、基础、主干、专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专业培养方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课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95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770040" y="339876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允许相同课程号课程刷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02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/>
          <p:nvPr/>
        </p:nvSpPr>
        <p:spPr>
          <a:xfrm>
            <a:off x="439560" y="2637000"/>
            <a:ext cx="815364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  12.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B  11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   9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   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86600" y="2852640"/>
            <a:ext cx="380880" cy="3276720"/>
          </a:xfrm>
          <a:prstGeom prst="downArrow">
            <a:avLst>
              <a:gd name="adj1" fmla="val 50000"/>
              <a:gd name="adj2" fmla="val 21507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742160" y="2852640"/>
            <a:ext cx="647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向下兼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11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347920"/>
            <a:ext cx="883908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质学基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 7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质学基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  4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普通地质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  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普通地质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   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质学基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  2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普通地质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   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2781360"/>
            <a:ext cx="380880" cy="3276720"/>
          </a:xfrm>
          <a:prstGeom prst="downArrow">
            <a:avLst>
              <a:gd name="adj1" fmla="val 50000"/>
              <a:gd name="adj2" fmla="val 21507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19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2971800"/>
            <a:ext cx="81532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计算机高级语言程序设计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计算机高级语言程序设计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F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计算机高级语言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1(C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26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物理实验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2971800"/>
            <a:ext cx="81532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表里的时间是虚拟时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需要二次选择项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33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重修、补修、缓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/>
          <p:nvPr/>
        </p:nvSpPr>
        <p:spPr>
          <a:xfrm>
            <a:off x="1109520" y="2971800"/>
            <a:ext cx="67042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都必须先选课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才能参加考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才能获得成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40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唯一例外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----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关于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体育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2565360"/>
            <a:ext cx="836136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可以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次同样的体育项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在未来的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个学期内修满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次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47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9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通选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279360" y="2489040"/>
            <a:ext cx="861048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两种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选择“通选课”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可以跨专业选择其他专业的课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定要慎重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25527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9144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54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退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/>
          <p:nvPr/>
        </p:nvSpPr>
        <p:spPr>
          <a:xfrm>
            <a:off x="217440" y="2971800"/>
            <a:ext cx="87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退课容易选课难，回头也很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不要随意清空课表，会后悔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课程含实验，且实验安排了地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61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39560" y="2347920"/>
            <a:ext cx="83995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预选阶段（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海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正选阶段（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PK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           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学期结束前经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补退选阶段（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复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    假期处于该阶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重修、补修阶段（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逆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下学期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3213000"/>
            <a:ext cx="457200" cy="2286000"/>
          </a:xfrm>
          <a:custGeom>
            <a:avLst/>
            <a:gdLst>
              <a:gd name="textAreaLeft" fmla="*/ 0 w 457200"/>
              <a:gd name="textAreaRight" fmla="*/ 16488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69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1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/>
          <p:nvPr/>
        </p:nvSpPr>
        <p:spPr>
          <a:xfrm>
            <a:off x="439560" y="2347920"/>
            <a:ext cx="8399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重修、补修阶段过于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逆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所以不支持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通选课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体育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选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只存在前三个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76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30240" y="2347920"/>
          <a:ext cx="8915400" cy="4259160"/>
        </p:xfrm>
        <a:graphic>
          <a:graphicData uri="http://schemas.openxmlformats.org/drawingml/2006/table">
            <a:tbl>
              <a:tblPr/>
              <a:tblGrid>
                <a:gridCol w="1859040"/>
                <a:gridCol w="1574640"/>
                <a:gridCol w="1763640"/>
                <a:gridCol w="1859040"/>
                <a:gridCol w="185904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预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正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补退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重补修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选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间顺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无先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先来先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先来先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无先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是否允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间冲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是否允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超课容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"/>
          <p:cNvSpPr/>
          <p:nvPr/>
        </p:nvSpPr>
        <p:spPr>
          <a:xfrm>
            <a:off x="2590920" y="3141720"/>
            <a:ext cx="4495680" cy="152280"/>
          </a:xfrm>
          <a:prstGeom prst="rightArrow">
            <a:avLst>
              <a:gd name="adj1" fmla="val 50000"/>
              <a:gd name="adj2" fmla="val 7380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84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" y="2492280"/>
            <a:ext cx="891540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预选                 正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对于超课堂容量的课程，系统抽签决定去留，没被系统选中的同学，改选其他课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体育课、通选课几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出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业选修课有时会出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必修课不可能出现。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3920" y="2708280"/>
            <a:ext cx="2057400" cy="304920"/>
          </a:xfrm>
          <a:prstGeom prst="rightArrow">
            <a:avLst>
              <a:gd name="adj1" fmla="val 50000"/>
              <a:gd name="adj2" fmla="val 1686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92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4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利用“重修规则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2781360"/>
            <a:ext cx="85899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重修补修选课有“标记”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“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标记”无影响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合理利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700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04920" y="2781360"/>
            <a:ext cx="85899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谢谢各位的耐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708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选课操作方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2781360"/>
            <a:ext cx="85899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见图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5437080" y="3508200"/>
            <a:ext cx="2952720" cy="2668680"/>
          </a:xfrm>
          <a:prstGeom prst="rect">
            <a:avLst/>
          </a:prstGeom>
          <a:ln w="0">
            <a:noFill/>
          </a:ln>
        </p:spPr>
      </p:pic>
      <p:sp>
        <p:nvSpPr>
          <p:cNvPr id="715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717" name="图片 28" descr="xinxiaoming.jpg"/>
            <p:cNvPicPr/>
            <p:nvPr/>
          </p:nvPicPr>
          <p:blipFill>
            <a:blip r:embed="rId2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30" descr="cug-xiaobiao.jpg"/>
            <p:cNvPicPr/>
            <p:nvPr/>
          </p:nvPicPr>
          <p:blipFill>
            <a:blip r:embed="rId3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登录地大办公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04920" y="2781360"/>
            <a:ext cx="858996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www.cug.edu.cn 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地大办公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portal.cug.edu.c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724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28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注意“教务公告”。点击教务管理系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4" descr="JZP2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28" name="上箭头 1"/>
          <p:cNvSpPr/>
          <p:nvPr/>
        </p:nvSpPr>
        <p:spPr>
          <a:xfrm>
            <a:off x="3657600" y="3657600"/>
            <a:ext cx="380880" cy="9144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2695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19080" y="0"/>
            <a:ext cx="9148680" cy="1316160"/>
            <a:chOff x="19080" y="0"/>
            <a:chExt cx="9148680" cy="1316160"/>
          </a:xfrm>
        </p:grpSpPr>
        <p:sp>
          <p:nvSpPr>
            <p:cNvPr id="730" name="矩形 41"/>
            <p:cNvSpPr/>
            <p:nvPr/>
          </p:nvSpPr>
          <p:spPr>
            <a:xfrm>
              <a:off x="190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8"/>
            <p:cNvSpPr/>
            <p:nvPr/>
          </p:nvSpPr>
          <p:spPr>
            <a:xfrm>
              <a:off x="2232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使用“网上选课”和“信息查询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4" descr="xp01"/>
          <p:cNvPicPr/>
          <p:nvPr/>
        </p:nvPicPr>
        <p:blipFill>
          <a:blip r:embed="rId1"/>
          <a:stretch/>
        </p:blipFill>
        <p:spPr>
          <a:xfrm>
            <a:off x="19080" y="1371600"/>
            <a:ext cx="9124920" cy="5486400"/>
          </a:xfrm>
          <a:prstGeom prst="rect">
            <a:avLst/>
          </a:prstGeom>
          <a:ln w="0">
            <a:noFill/>
          </a:ln>
        </p:spPr>
      </p:pic>
      <p:sp>
        <p:nvSpPr>
          <p:cNvPr id="734" name="笑脸 1">
            <a:hlinkClick r:id="rId2" action="ppaction://hlinksldjump"/>
          </p:cNvPr>
          <p:cNvSpPr/>
          <p:nvPr/>
        </p:nvSpPr>
        <p:spPr>
          <a:xfrm>
            <a:off x="5410080" y="2362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笑脸 1"/>
          <p:cNvSpPr/>
          <p:nvPr/>
        </p:nvSpPr>
        <p:spPr>
          <a:xfrm>
            <a:off x="1752480" y="2362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笑脸 1"/>
          <p:cNvSpPr/>
          <p:nvPr/>
        </p:nvSpPr>
        <p:spPr>
          <a:xfrm>
            <a:off x="4267080" y="2514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笑脸 1"/>
          <p:cNvSpPr/>
          <p:nvPr/>
        </p:nvSpPr>
        <p:spPr>
          <a:xfrm>
            <a:off x="5562720" y="3581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2819520" y="30481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Calibri"/>
              </a:rPr>
              <a:t>点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2057400" y="2590920"/>
            <a:ext cx="838080" cy="4572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3352680" y="2742840"/>
            <a:ext cx="83844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5715000" y="2362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5867280" y="3505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3962520" y="22096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"/>
          <p:cNvSpPr/>
          <p:nvPr/>
        </p:nvSpPr>
        <p:spPr>
          <a:xfrm>
            <a:off x="2057400" y="21337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0" y="-20520"/>
            <a:ext cx="9148680" cy="1315800"/>
            <a:chOff x="0" y="-20520"/>
            <a:chExt cx="9148680" cy="1315800"/>
          </a:xfrm>
        </p:grpSpPr>
        <p:sp>
          <p:nvSpPr>
            <p:cNvPr id="746" name="矩形 41"/>
            <p:cNvSpPr/>
            <p:nvPr/>
          </p:nvSpPr>
          <p:spPr>
            <a:xfrm>
              <a:off x="0" y="-20520"/>
              <a:ext cx="9148680" cy="131580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矩形 8"/>
            <p:cNvSpPr/>
            <p:nvPr/>
          </p:nvSpPr>
          <p:spPr>
            <a:xfrm>
              <a:off x="3240" y="71280"/>
              <a:ext cx="9145440" cy="10076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网上选课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生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Picture 4" descr="xp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50" name="笑脸 1"/>
          <p:cNvSpPr/>
          <p:nvPr/>
        </p:nvSpPr>
        <p:spPr>
          <a:xfrm>
            <a:off x="6783480" y="5983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笑脸 7"/>
          <p:cNvSpPr/>
          <p:nvPr/>
        </p:nvSpPr>
        <p:spPr>
          <a:xfrm>
            <a:off x="4037040" y="5983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笑脸 8"/>
          <p:cNvSpPr/>
          <p:nvPr/>
        </p:nvSpPr>
        <p:spPr>
          <a:xfrm>
            <a:off x="1066680" y="5970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笑脸 11"/>
          <p:cNvSpPr/>
          <p:nvPr/>
        </p:nvSpPr>
        <p:spPr>
          <a:xfrm>
            <a:off x="2362320" y="3581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6934320" y="2057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选课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01000" y="266688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"/>
          <p:cNvSpPr/>
          <p:nvPr/>
        </p:nvSpPr>
        <p:spPr>
          <a:xfrm rot="5400000">
            <a:off x="474480" y="6154560"/>
            <a:ext cx="422280" cy="609840"/>
          </a:xfrm>
          <a:prstGeom prst="downArrow">
            <a:avLst>
              <a:gd name="adj1" fmla="val 50000"/>
              <a:gd name="adj2" fmla="val 3576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1143000" y="61722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7"/>
          <p:cNvSpPr/>
          <p:nvPr/>
        </p:nvSpPr>
        <p:spPr>
          <a:xfrm rot="16200000">
            <a:off x="8094600" y="615456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笑脸 1"/>
          <p:cNvSpPr/>
          <p:nvPr/>
        </p:nvSpPr>
        <p:spPr>
          <a:xfrm>
            <a:off x="7607160" y="597996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7">
            <a:hlinkClick r:id="rId2" action="ppaction://hlinksldjump"/>
          </p:cNvPr>
          <p:cNvSpPr/>
          <p:nvPr/>
        </p:nvSpPr>
        <p:spPr>
          <a:xfrm rot="16200000">
            <a:off x="6667560" y="6133680"/>
            <a:ext cx="228600" cy="609480"/>
          </a:xfrm>
          <a:prstGeom prst="downArrow">
            <a:avLst>
              <a:gd name="adj1" fmla="val 50000"/>
              <a:gd name="adj2" fmla="val 66024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62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通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533520" y="4495680"/>
            <a:ext cx="8076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预选阶段”：选课的先后顺序无关，先选不占便宜，后选不吃亏。重要是“正选阶段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68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体育选课（选项目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4" descr="ty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73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常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57200" y="1981080"/>
            <a:ext cx="7924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457200" y="1469880"/>
            <a:ext cx="829620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尽量使用低版本浏览器，注意允许弹出窗口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该课程没有您可以选的教学班”：表示该课程没有课堂，或者该课程限制专业，或者暂时没到选择时间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系统繁忙”：多刷新几次，或者换时间。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779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几点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228600" y="152388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选课期间数据流量大，易造成网络堵塞，保持良好心情。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预选阶段：选课顺序与选课时间无关，系统按一定规则抽签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请同学们在选课阶段一定要关注自己选课情况，系统没预置上的课程，自己一定要选中。同时注意自己的密码和选课数据安全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专业设置特殊的专业课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英语、体育、艺术类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建议非专业学生勿选，比较难过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784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生已选课程查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AutoShape 7"/>
          <p:cNvSpPr/>
          <p:nvPr/>
        </p:nvSpPr>
        <p:spPr>
          <a:xfrm rot="5400000">
            <a:off x="474480" y="5943240"/>
            <a:ext cx="422280" cy="609840"/>
          </a:xfrm>
          <a:prstGeom prst="downArrow">
            <a:avLst>
              <a:gd name="adj1" fmla="val 50000"/>
              <a:gd name="adj2" fmla="val 3576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1066680" y="594828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91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3" name="Picture 9" descr="xk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例如：选择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马克思主义基本原理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AutoShape 7"/>
          <p:cNvSpPr/>
          <p:nvPr/>
        </p:nvSpPr>
        <p:spPr>
          <a:xfrm>
            <a:off x="4343400" y="36576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2362320" y="274320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黄色部分为推荐的课堂，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为可供选择的课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7"/>
          <p:cNvSpPr/>
          <p:nvPr/>
        </p:nvSpPr>
        <p:spPr>
          <a:xfrm rot="5400000">
            <a:off x="474480" y="5808240"/>
            <a:ext cx="422280" cy="609840"/>
          </a:xfrm>
          <a:prstGeom prst="downArrow">
            <a:avLst>
              <a:gd name="adj1" fmla="val 50000"/>
              <a:gd name="adj2" fmla="val 3576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8"/>
          <p:cNvSpPr/>
          <p:nvPr/>
        </p:nvSpPr>
        <p:spPr>
          <a:xfrm>
            <a:off x="1143000" y="59022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800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专业推荐课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04" name="AutoShape 7"/>
          <p:cNvSpPr/>
          <p:nvPr/>
        </p:nvSpPr>
        <p:spPr>
          <a:xfrm rot="5400000">
            <a:off x="626760" y="580860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8"/>
          <p:cNvSpPr/>
          <p:nvPr/>
        </p:nvSpPr>
        <p:spPr>
          <a:xfrm>
            <a:off x="1143000" y="59022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807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生个人课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523880" y="380988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 rot="5400000">
            <a:off x="626760" y="601992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1143000" y="611352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14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提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2781360"/>
            <a:ext cx="85899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、大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二、小规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三、好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815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快速选课、本专业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380880" y="1771560"/>
            <a:ext cx="808056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速选课：因系统已预置课程，该功能意义不大。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专业选课：不解释。和跨专业相对的概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1219320" y="632448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7"/>
          <p:cNvSpPr/>
          <p:nvPr/>
        </p:nvSpPr>
        <p:spPr>
          <a:xfrm rot="5400000">
            <a:off x="550440" y="623088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822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清空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57200" y="198900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该功能将清空之前所有的选课记录。 请慎用！建议不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1592280" y="58104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7"/>
          <p:cNvSpPr/>
          <p:nvPr/>
        </p:nvSpPr>
        <p:spPr>
          <a:xfrm rot="5400000">
            <a:off x="779040" y="580572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829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1" name="Picture 4" descr="kzyxk1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跨专业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25560" y="4656240"/>
            <a:ext cx="8534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只有在掌握了基础知识后，才使用该功能。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建议低年级选高年级的“专业选修课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1143000" y="591516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 rot="5400000">
            <a:off x="626760" y="582156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837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在“已选课程”中退选课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7"/>
          <p:cNvSpPr/>
          <p:nvPr/>
        </p:nvSpPr>
        <p:spPr>
          <a:xfrm rot="5400000">
            <a:off x="703440" y="5867280"/>
            <a:ext cx="421920" cy="609840"/>
          </a:xfrm>
          <a:prstGeom prst="downArrow">
            <a:avLst>
              <a:gd name="adj1" fmla="val 50000"/>
              <a:gd name="adj2" fmla="val 3579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8"/>
          <p:cNvSpPr/>
          <p:nvPr/>
        </p:nvSpPr>
        <p:spPr>
          <a:xfrm>
            <a:off x="1523880" y="5961240"/>
            <a:ext cx="9144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21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什么是专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2378160"/>
            <a:ext cx="85899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专业是“课程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组织形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相同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课程经过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不同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组合，最后形成专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程属性中的“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必修、选修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”，不要过多的考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（咱们学的是课程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/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普地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094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533520" y="22096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6094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533520" y="22096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09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37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教学计划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4360" y="2563560"/>
            <a:ext cx="76820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2378160"/>
            <a:ext cx="837252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教学计划规定了完成“专业”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最低总学分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教学计划规定了完成“专业”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分项目的最低学分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（怎么理解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43:00Z</dcterms:created>
  <dc:creator>Neil Chen</dc:creator>
  <dc:description/>
  <cp:keywords/>
  <dc:language>en-US</dc:language>
  <cp:lastModifiedBy>叶青</cp:lastModifiedBy>
  <cp:lastPrinted>1899-12-30T00:00:00Z</cp:lastPrinted>
  <dcterms:modified xsi:type="dcterms:W3CDTF">2014-01-06T07:02:34Z</dcterms:modified>
  <cp:revision>246</cp:revision>
  <dc:subject>专业商务报告制作与演示</dc:subject>
  <dc:title>专业商务报告制作与演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